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A56D-1B5C-4358-BFF9-D31204FCC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0F3E-85AE-49FB-9786-708DEE840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A78C-55C3-4A89-8BB8-C7F685942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06A7-365C-495E-9EF3-2EA1D1A30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F223D-3DE3-4910-A056-49BB6C118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A331B-FB0B-4034-AB7D-E3A0A8166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F7006-1A2A-4573-972B-74410F88F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75892-9209-48CC-8420-6AC0BCE2E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1E2F6-6A75-41AF-A343-D18AF9D0D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E9E59-EE60-4164-B2FE-13CAB4E4C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1F101-B482-4190-BA8C-EA5494EB4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01FF-32E6-4BBC-841D-C6770EA02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DEBD0-1267-4DDB-9A92-DBE53FDFC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58C38-6F9A-4280-8625-6A5202497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850A3-3385-4C1C-B8B6-BF22D1857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8255F-273E-48FB-A684-C4D22E52A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AFCAB-435F-45BA-8A10-96022E996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55F0-15FD-41C9-ACC1-D93111580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A1D5-26FC-40CB-B19A-A6F40E389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D3EB-385B-483B-95E7-6A16BE9FC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9DEC-4025-4824-88D5-A6C28F520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5FE4-88D3-4A4E-8557-1AFEE32D3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3121-3D83-4763-8D88-EEE9F1E0E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FF28-92C5-44E6-9534-5914A6954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33191-A910-4A39-A385-07ADEA20B70F}" type="slidenum"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240E2-5D4E-4FAD-BDE4-A65F2847477C}" type="slidenum"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cc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-838080"/>
            <a:ext cx="6870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What are the oldest and the most prestigious universities in the UK?” 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1" name=""/>
          <p:cNvSpPr/>
          <p:nvPr/>
        </p:nvSpPr>
        <p:spPr>
          <a:xfrm>
            <a:off x="6629400" y="5562000"/>
            <a:ext cx="117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0 poi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143000" y="3642120"/>
            <a:ext cx="647712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omic Sans MS"/>
              </a:rPr>
              <a:t>Oxford, Cambridge</a:t>
            </a:r>
            <a:r>
              <a:rPr b="0" lang="ru-RU" sz="4400" spc="-1" strike="noStrike">
                <a:solidFill>
                  <a:srgbClr val="ffffff"/>
                </a:solidFill>
                <a:latin typeface="Comic Sans MS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ustomer</cp:lastModifiedBy>
  <dcterms:modified xsi:type="dcterms:W3CDTF">2009-01-26T15:12:45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